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9AB2-DB36-4F2B-91D7-E43068D93A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9B02-DEED-4AF7-85B9-AD40B0E549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9A39-496B-4833-91BB-4E1E5166E0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8110-540B-43D3-911F-D8CCB0370F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8318-F1D3-4D4B-9FCE-C4FB81F125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0E05-359E-4BA2-B520-964DC9D0D1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6370-C406-41FC-8F37-DE462A1205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7A92-2A88-461D-90C8-2EF7A84882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483D-802D-4C39-BFB5-5E0E3E6FE8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832B-AEF6-485A-8A3A-B6D2BC8E4D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F26A-D71D-4CFA-BDB5-0BFE87BD2F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1752120"/>
            <a:ext cx="586764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ffects of World War I in the United States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6" descr="2707900_edit"/>
          <p:cNvPicPr/>
          <p:nvPr/>
        </p:nvPicPr>
        <p:blipFill>
          <a:blip r:embed="rId1"/>
          <a:stretch/>
        </p:blipFill>
        <p:spPr>
          <a:xfrm>
            <a:off x="2971800" y="3048120"/>
            <a:ext cx="2971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ounded Rectangle 4"/>
          <p:cNvSpPr/>
          <p:nvPr/>
        </p:nvSpPr>
        <p:spPr>
          <a:xfrm>
            <a:off x="609480" y="1523880"/>
            <a:ext cx="76964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143000" y="1569960"/>
            <a:ext cx="701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One mail bomb was sent to Attorney General A. Mitchell Palmer, who launched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Palmer Raid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in 1920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09480" y="3214800"/>
            <a:ext cx="8077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olic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arrested thousand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of peop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ome were radicals; others were simply immigra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Hundreds of people wer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deported without a tri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685800" y="51055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American Civil Liberties Union (ACLU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formed in 1920 to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protect people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 rights and liber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990720" y="129528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nother example of the Red Scare was the trail of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 Nicola Sacc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an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Bartolomeo Vanzetti.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y were Italian anarchists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charged with 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  <a:ea typeface="Arial"/>
              </a:rPr>
              <a:t>committing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 murd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during a robbery in Massachuset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828800" y="2971800"/>
            <a:ext cx="533412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itnesses claimed the robbers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looked Italian.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Despite little real evidence against them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acco and Vanzetti were convicted and execut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990720" y="52578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any scholars and politicians believed that the men died because of their nationality and political belief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6"/>
          <p:cNvSpPr/>
          <p:nvPr/>
        </p:nvSpPr>
        <p:spPr>
          <a:xfrm>
            <a:off x="990720" y="131112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the 1920 presidential election, Republican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Warren G. Harding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based his campaig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on a call for 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normalcy,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”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a return to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 simpler time before President Wils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90720" y="3124080"/>
            <a:ext cx="487656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Voters rejected President Wilso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idealism and view of America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role in the worl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Harding won the election in a landsli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epublicans also won control of Congres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Picture 8" descr="2707900_edit"/>
          <p:cNvPicPr/>
          <p:nvPr/>
        </p:nvPicPr>
        <p:blipFill>
          <a:blip r:embed="rId1"/>
          <a:stretch/>
        </p:blipFill>
        <p:spPr>
          <a:xfrm>
            <a:off x="5943600" y="3200400"/>
            <a:ext cx="243828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4"/>
          <p:cNvSpPr/>
          <p:nvPr/>
        </p:nvSpPr>
        <p:spPr>
          <a:xfrm flipH="1" rot="10800000">
            <a:off x="685800" y="1066680"/>
            <a:ext cx="7848720" cy="1981440"/>
          </a:xfrm>
          <a:prstGeom prst="upArrowCallout">
            <a:avLst>
              <a:gd name="adj1" fmla="val -38355"/>
              <a:gd name="adj2" fmla="val 36622"/>
              <a:gd name="adj3" fmla="val 24505"/>
              <a:gd name="adj4" fmla="val 7723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990720" y="1112760"/>
            <a:ext cx="750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Despite Harding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desire to go back to earlier times, it became clear that a new world order had emerg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09480" y="2971800"/>
            <a:ext cx="7925040" cy="25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1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Austro-Hungarian and Ottoman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empires no longer existed.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Germany and Russia had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 new forms of government.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Other nations were weaken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lnSpc>
                <a:spcPct val="11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Meanwhile, the United States was strong, confident, and prosperous. It became the world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economic center and largest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reditor n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56386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merica would wrestle with its relationship with the world in years to co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914400" y="2133720"/>
            <a:ext cx="68738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spcAft>
                <a:spcPts val="27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Describe the problems Americans faced immediately after the w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Aft>
                <a:spcPts val="27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how these problems contributed to the Red Sca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Aft>
                <a:spcPts val="27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Understand how the war changed America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s role in world affai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57200" y="1219320"/>
            <a:ext cx="685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7200" y="121932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914400" y="1981080"/>
            <a:ext cx="762012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influenza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flu viru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infla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rising pr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Red Scar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idespread fear of radicals and communi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Palmer Raid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a series of raids, arrests, and deportations of suspected radicals, most of whom never received a tri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457200" y="121932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914400" y="2057400"/>
            <a:ext cx="762012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icola Sacco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nd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Bartolomeo Vanzetti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talian anarchists convicted and executed for murder despite scarce evidence against th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Warren G. Harding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elected president in 1920 by promising Americans a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eturn to normalcy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reditor n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a nation that lends more money than it borrow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1"/>
          <p:cNvSpPr/>
          <p:nvPr/>
        </p:nvSpPr>
        <p:spPr>
          <a:xfrm>
            <a:off x="1447920" y="1295280"/>
            <a:ext cx="6933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What political, economic, and social effects did World War I have on the United Stat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1447920" y="2819520"/>
            <a:ext cx="670536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Treaty of Versailles produced an unstable peace. Its harsh terms left Germany with a strong desire for revenge, while Soviet Russia threatened revolution throughout the industrial worl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the United States, the horrors of the war and the fear of radicals led people to question the natio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role in the worl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586080" cy="61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0"/>
          <p:cNvSpPr/>
          <p:nvPr/>
        </p:nvSpPr>
        <p:spPr>
          <a:xfrm>
            <a:off x="380880" y="1219320"/>
            <a:ext cx="83059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transition to peace was made more difficult by a deadly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influenza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andemic that began in 1918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09480" y="3124080"/>
            <a:ext cx="381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flu killed 550,000 Americans and more than 50 million people around the worl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2" descr="HSUS_ch19_s4_InfluenzaSpreadMap"/>
          <p:cNvPicPr/>
          <p:nvPr/>
        </p:nvPicPr>
        <p:blipFill>
          <a:blip r:embed="rId1"/>
          <a:stretch/>
        </p:blipFill>
        <p:spPr>
          <a:xfrm>
            <a:off x="4222800" y="2133720"/>
            <a:ext cx="4159080" cy="39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685800" y="1295280"/>
            <a:ext cx="7772400" cy="487692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969696"/>
            </a:solidFill>
            <a:miter/>
          </a:ln>
          <a:effectLst>
            <a:outerShdw dist="45929" dir="337112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14400" y="1447920"/>
          <a:ext cx="7315200" cy="433692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889560">
                <a:tc>
                  <a:txBody>
                    <a:bodyPr lIns="137160" rIns="137160" tIns="137160" bIns="0" anchor="t">
                      <a:noAutofit/>
                    </a:bodyPr>
                    <a:p>
                      <a:pPr>
                        <a:spcAft>
                          <a:spcPts val="16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conomic troubles also caused problems in the United States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37160" marR="13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3447360">
                <a:tc>
                  <a:txBody>
                    <a:bodyPr lIns="137160" rIns="137160" tIns="137160" bIns="0" anchor="t">
                      <a:noAutofit/>
                    </a:bodyPr>
                    <a:p>
                      <a:pPr marL="228600" indent="-228600">
                        <a:spcAft>
                          <a:spcPts val="1650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</a:t>
                      </a: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recessio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or economic slowdown, occurred after the wa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indent="-228600">
                        <a:spcAft>
                          <a:spcPts val="1650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y women and African Americans lost their jobs to returning soldier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indent="-228600">
                        <a:spcAft>
                          <a:spcPts val="1650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Tension over jobs and housing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led to race riots in some citie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indent="-228600">
                        <a:spcAft>
                          <a:spcPts val="1650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arcity of consumer goods and high demand caused 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inflation,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or rising price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37160" marR="137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4"/>
          <p:cNvSpPr/>
          <p:nvPr/>
        </p:nvSpPr>
        <p:spPr>
          <a:xfrm flipH="1" rot="10800000">
            <a:off x="876240" y="1523880"/>
            <a:ext cx="7391520" cy="2360880"/>
          </a:xfrm>
          <a:prstGeom prst="upArrowCallout">
            <a:avLst>
              <a:gd name="adj1" fmla="val 35747"/>
              <a:gd name="adj2" fmla="val 33106"/>
              <a:gd name="adj3" fmla="val 24505"/>
              <a:gd name="adj4" fmla="val 7723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52480" y="1676520"/>
            <a:ext cx="586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Because rising prices made it harder to make ends meet, inflation caused labor unres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85800" y="3862440"/>
            <a:ext cx="800100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Many unions went on strike for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higher pay and shorter workday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19, more than 4 million workers went on strik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workers succeeded in some strikes, but lost far more. Some strikes turned viol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 flipH="1" rot="5400000">
            <a:off x="1218240" y="1371600"/>
            <a:ext cx="3200400" cy="4267080"/>
          </a:xfrm>
          <a:prstGeom prst="upArrowCallout">
            <a:avLst>
              <a:gd name="adj1" fmla="val 20937"/>
              <a:gd name="adj2" fmla="val 20519"/>
              <a:gd name="adj3" fmla="val 21104"/>
              <a:gd name="adj4" fmla="val 53315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914400" y="2362320"/>
            <a:ext cx="2895480" cy="18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everal events combined to create the first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Red Scar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in the United St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952880" y="2133720"/>
            <a:ext cx="35053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Violent strik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emergence of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oviet Un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as a communist count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 series of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mail bomb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targeting industrialists and government officia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Mark Scacewater</cp:lastModifiedBy>
  <cp:lastPrinted>2008-05-21T18:42:16Z</cp:lastPrinted>
  <dcterms:modified xsi:type="dcterms:W3CDTF">2012-09-30T21:01:25Z</dcterms:modified>
  <cp:revision>181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